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181-9BDB-4A23-A958-AF2509B6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992-7ECC-4A5C-A70D-D3157C5F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87D-7EC5-4CBF-8215-7256C07E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578-86CF-4FE0-8C30-310FD0FD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8242C-6564-4C7B-A6AD-265C91FB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7DE78-555F-433B-A288-990C4201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FA097-FC1F-4F1F-9BC0-EF514EA3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49ADF-C69F-4D17-93DF-035B338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12136-4DC4-448F-AF81-C5A3649A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88CDA-175A-4793-B423-2638A675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6A964-82EC-454B-978B-887A3A94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D44-4791-47E6-93FE-F704CB5E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224C5-3A70-4476-8CD9-BAA1CD1D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1A6F1-5EED-4871-967A-E55E8F4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18C07-3CD3-4F6A-8EA2-D199641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CC8CC-44ED-42C4-8FE6-49AE86E2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39B4E-1850-41CE-A1A8-1175574A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28E-129B-4F8B-A526-D34BD88B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AC1-171D-455B-A145-83104C81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C34-14E3-4371-8C55-2CBD9AFC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5AA-806F-443D-B980-859CB88A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C25-51F8-4076-BA3C-8921993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DC8-D815-4FC4-8B54-4E05F787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6CA-21B9-4C14-95E0-A455695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F941-A47D-42DD-B497-EF266C3A89E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E0F9-8428-44BB-B376-F6B6A3F4C79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omplete the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I __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收到两封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 from my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There are_______________________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量的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in the libr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发现这部电影很令人兴奋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fi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____________________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 ____________________________      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以前从没出过国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But I want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. He 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为那家公司工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for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7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received two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reat number of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716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film very exci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21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never been  abroad befor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49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worked for that fir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12952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esson 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No wrong numb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4560" y="333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572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ir work: Discuss  the following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66680"/>
            <a:ext cx="8820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ere has Mr. James Scott just bought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rage?  How far is it from Silbue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Can he get a telephone for his new gar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What did he buy and how many has he bou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What happened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 How long did the bird cover the dist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 What has he sent requests fo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 What kinds of messages do they car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1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Retell the story using  the ke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914400"/>
            <a:ext cx="8280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Mr. James Scott→  garage→  Silbury and now→  just bought→  Pinhur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. Pinhurst →five miles→ Silbury→ can’t →telephone→ garage →bought →pig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 Yesterday→ pigeon→ message→ Pinh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. covered →distance→ min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. up to now →sent requests→ spare parts →messages→ garage→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. this way→ begun→ privat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2240" y="958680"/>
            <a:ext cx="78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James Scott has a garage in Silbury and now h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has just bought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other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garag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in Pinhurst. Pinhurst is only five mil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bury, but Mr. Scott cannot get a telephone for his new garage, so he has just bought twelve pigeons. Yesterday, a pigeon carried the first messag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from Pinhurst to Silbur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The bird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covered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the distan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ree minutes. Up to no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Mr. Scott ha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ent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a great many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requests f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pare par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urgent messag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ne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garage to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the 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is wa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he has begun his own private “telephone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.an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或直接作代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.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复数或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代词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3.one…the other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特指两个事物的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另一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is apple is green. Can you show me another one/ an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here are the other peop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ay no attention to what others 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little girl slowly closed ____ eye and then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Messag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消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音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口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have a message for you from Mr. John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an you leave a message for Mr. Smith asking him to phone me ba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能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Mr. Smith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捎个口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叫他给我回电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Servi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服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e service here is very slow; sometimes you have to wait ten minutes for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fter-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售后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 self-service restauran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助餐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Room 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饭店把饭菜等送到房间的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Up to / till /until now=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表示“到目前为止”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与现在完成时连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只读过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外国小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o now, I have only read five foreign no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她已得了三个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ill now, she has won three pri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 Scott has opened his second garage in Pinhurst. His first garage is in Sibury. Silbury is five miles away. Mr. Scott cannot get a telephone for his new garage. He has bought twelve pigeons. They carry messages from one garage to the other in three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7:04:15Z</dcterms:created>
  <dc:creator/>
  <dc:description/>
  <dc:language>en-US</dc:language>
  <cp:lastModifiedBy>tyz</cp:lastModifiedBy>
  <dcterms:modified xsi:type="dcterms:W3CDTF">2003-03-23T00:38:43Z</dcterms:modified>
  <cp:revision>11</cp:revision>
  <dc:subject/>
  <dc:title>幻灯片 1</dc:title>
</cp:coreProperties>
</file>